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1DF-0174-417B-BA8E-DF3F8080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6AC-7A18-4E08-A796-6760B100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4D0-98C3-4A15-A2C6-235661D2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99D-EC82-49A4-AF45-5E7414FB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3C9-32AA-4CD9-A498-DDDD3146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BF3-D940-4DE6-B4A6-A605868E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65B-F9DF-48CC-A9EE-87D0FAE5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1B1-DBA8-4ABD-A0CD-C0333B8A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43B-2742-4883-9F89-E6ED1623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F75-049F-4556-A83A-935793EC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ECE-2361-4E6F-A075-B92FD19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1EE-EC35-4AFC-900F-CE7A1FE1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12C3-886F-464A-84BA-EA5A0460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2960" y="63360"/>
            <a:ext cx="605952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85880" y="523800"/>
            <a:ext cx="57736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04960" y="523800"/>
            <a:ext cx="57340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04960" y="519120"/>
            <a:ext cx="573408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09640" y="528480"/>
            <a:ext cx="572472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5600" y="115920"/>
            <a:ext cx="57546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538200"/>
            <a:ext cx="61912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9920" y="533520"/>
            <a:ext cx="646596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38280" y="523800"/>
            <a:ext cx="606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0560" y="528480"/>
            <a:ext cx="576288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1680" y="519120"/>
            <a:ext cx="62006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0560" y="528480"/>
            <a:ext cx="576288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04960" y="528480"/>
            <a:ext cx="573408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roki Takakura</cp:lastModifiedBy>
  <dcterms:modified xsi:type="dcterms:W3CDTF">2006-06-12T08:32:4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