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339-B2FE-4619-AAD5-070EF4C27F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VD/HD-AV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ひとつでいい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D → S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順に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covery Tool / Playlist burnin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i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直接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書き戻す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一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取り込んでから書き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68C-F898-40ED-AFE0-7F12F863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882-1189-4F4A-963C-72DA5D6E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4F1-8845-464A-87A1-BCB72AC0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52D-3EDB-4F06-8211-CBB22A18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A177-EDE1-4272-94FB-799E785C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8C71-D996-4E0C-9667-E3055CA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2004-69B2-43A5-9859-FA04B875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C2D1-D3C0-44BC-A24F-3856A48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E3FC-E561-4A94-A20E-153094F9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0929-3EA5-467B-BAF2-2EB46D58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CB87-99A6-4052-97BB-A8DB68AF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2EC-E0FB-4C5C-AEE3-7E7802B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1C14-98B7-4777-8AA3-A13D1A1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25F4-4E53-410B-A1F3-C16E8F1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C986-BF75-4D13-9384-DD72867C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7D60-C4CF-4931-A0F0-2A257CBD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FB5E-75AF-42CD-A00E-80F8874C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F49-0E2A-4162-A8BD-6695718F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EAF-6E80-4122-AAF4-FF878DC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B99-EAA8-4F52-8693-AA2695B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15A-F0B2-424C-971C-88BCC416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FB3-F04B-472C-BC52-9D4727F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7F4-4328-43EA-AE2F-AE02B19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518-8385-41F7-9FFB-F56F97E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0241-3A5D-449E-8881-43E9CB565A1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466B-635D-4516-A910-8771A1D12D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solidFill>
            <a:srgbClr val="9ac2c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3486600"/>
            <a:ext cx="2210040" cy="307080"/>
          </a:xfrm>
          <a:prstGeom prst="rect">
            <a:avLst/>
          </a:prstGeom>
          <a:gradFill rotWithShape="0">
            <a:gsLst>
              <a:gs pos="0">
                <a:srgbClr val="c0c000"/>
              </a:gs>
              <a:gs pos="50000">
                <a:srgbClr val="585800"/>
              </a:gs>
              <a:gs pos="100000">
                <a:srgbClr val="c0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ture Motion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441828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 Check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1370160"/>
            <a:ext cx="129528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Convers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370160"/>
            <a:ext cx="1084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Trimming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1828440" y="2133720"/>
            <a:ext cx="1600200" cy="1295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57600" y="2133720"/>
            <a:ext cx="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2133720"/>
            <a:ext cx="53352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57800" y="2209320"/>
            <a:ext cx="1143000" cy="114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59480" y="5607000"/>
            <a:ext cx="1312560" cy="337320"/>
            <a:chOff x="6459480" y="5607000"/>
            <a:chExt cx="1312560" cy="337320"/>
          </a:xfrm>
        </p:grpSpPr>
        <p:sp>
          <p:nvSpPr>
            <p:cNvPr id="346" name=""/>
            <p:cNvSpPr/>
            <p:nvPr/>
          </p:nvSpPr>
          <p:spPr>
            <a:xfrm>
              <a:off x="6459480" y="5683320"/>
              <a:ext cx="262440" cy="228600"/>
            </a:xfrm>
            <a:prstGeom prst="rect">
              <a:avLst/>
            </a:prstGeom>
            <a:gradFill rotWithShape="0">
              <a:gsLst>
                <a:gs pos="0">
                  <a:srgbClr val="5cff5c"/>
                </a:gs>
                <a:gs pos="50000">
                  <a:srgbClr val="2a752a"/>
                </a:gs>
                <a:gs pos="100000">
                  <a:srgbClr val="5cff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560" y="5607000"/>
              <a:ext cx="10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Gaz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77120" y="5943600"/>
            <a:ext cx="1294560" cy="337320"/>
            <a:chOff x="6477120" y="5943600"/>
            <a:chExt cx="1294560" cy="337320"/>
          </a:xfrm>
        </p:grpSpPr>
        <p:sp>
          <p:nvSpPr>
            <p:cNvPr id="349" name=""/>
            <p:cNvSpPr/>
            <p:nvPr/>
          </p:nvSpPr>
          <p:spPr>
            <a:xfrm>
              <a:off x="6477120" y="6127920"/>
              <a:ext cx="2484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08240" y="5943600"/>
              <a:ext cx="106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Lau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09480" y="2605320"/>
            <a:ext cx="914400" cy="52020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Disc Imop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523520" y="2895120"/>
            <a:ext cx="175284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265640"/>
            <a:ext cx="121896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pi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410080"/>
            <a:ext cx="24386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V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5027760"/>
            <a:ext cx="1219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3809880"/>
            <a:ext cx="1066680" cy="5335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335160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itializat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ony Picture Utilit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DNA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C01-FF22-4144-A7E6-ED9A055CCA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3:10:11Z</dcterms:created>
  <dc:creator>Motoyuki Suzuki</dc:creator>
  <dc:description/>
  <dc:language>en-US</dc:language>
  <cp:lastModifiedBy>tomoko-t</cp:lastModifiedBy>
  <dcterms:modified xsi:type="dcterms:W3CDTF">2006-04-28T03:34:38Z</dcterms:modified>
  <cp:revision>12</cp:revision>
  <dc:subject/>
  <dc:title>Impalaモジュール構成</dc:title>
</cp:coreProperties>
</file>