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B73D-7654-4FAD-8010-6A723D71CEB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e Touch DVD/HD-AV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はひとつでいい：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e Touch Di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D → SD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順に作成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ecovery Tool / Playlist burning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機能はドロップした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Dis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から直接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書き戻す機能はドロップした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一度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取り込んでから書き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70CF-42EC-48AD-90CF-B898E91AF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4E78-BA12-4099-93E0-52ECC90E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716C-5532-43CA-8614-832A3E5F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D420-C266-4B19-9E76-BCE0D335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A6E9-4F75-410A-8A76-EFFB2404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8E4D-23F8-45B0-9148-E7A2BE25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252D-D9F8-4E73-959D-1382505A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082E-536A-4BC0-A31B-EDC2E477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2575-6477-490C-9446-0607E44C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F423-9621-4114-9E3A-EE8892BA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4B5C-FD87-4E6E-BC63-8E474242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8B72-15CA-4229-B075-30398732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5254-DF74-42A3-B40F-EC9B3894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016C-0AAD-48FA-8001-0328FA4E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DA4D-3998-4DA0-B945-44A86CC7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FBD0-63AC-4474-80CB-F48259BF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DACD-D25A-46A6-BDDF-C9314C19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77BA-0D9A-4695-8B69-8B62C430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2D32-BDFE-4B96-A652-19BF57CD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EDE6-2E89-44F1-A614-0D7179B2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610A-F091-49A4-A074-18EA1606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49A7-C85B-41EA-AC85-22C40572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7341-3002-46BA-9998-71996EC2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B4D0-E54D-4461-826F-4C34E90A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AE16-7301-434B-9FBE-4B50AE247E3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E941-0EBF-4606-8EBD-3BD31B525B7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28600" y="304920"/>
            <a:ext cx="8763120" cy="6095880"/>
          </a:xfrm>
          <a:prstGeom prst="rect">
            <a:avLst/>
          </a:prstGeom>
          <a:solidFill>
            <a:srgbClr val="9ac2c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352680" y="3486600"/>
            <a:ext cx="2210040" cy="307080"/>
          </a:xfrm>
          <a:prstGeom prst="rect">
            <a:avLst/>
          </a:prstGeom>
          <a:gradFill rotWithShape="0">
            <a:gsLst>
              <a:gs pos="0">
                <a:srgbClr val="c0c000"/>
              </a:gs>
              <a:gs pos="50000">
                <a:srgbClr val="585800"/>
              </a:gs>
              <a:gs pos="100000">
                <a:srgbClr val="c0c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icture Motion Brows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715000" y="4418280"/>
            <a:ext cx="1219320" cy="520200"/>
          </a:xfrm>
          <a:prstGeom prst="rect">
            <a:avLst/>
          </a:prstGeom>
          <a:gradFill rotWithShape="0">
            <a:gsLst>
              <a:gs pos="0">
                <a:srgbClr val="5c5cff"/>
              </a:gs>
              <a:gs pos="50000">
                <a:srgbClr val="2a2a75"/>
              </a:gs>
              <a:gs pos="100000">
                <a:srgbClr val="5c5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dia Check To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143000" y="1370160"/>
            <a:ext cx="1295280" cy="733320"/>
          </a:xfrm>
          <a:prstGeom prst="rect">
            <a:avLst/>
          </a:prstGeom>
          <a:gradFill rotWithShape="0">
            <a:gsLst>
              <a:gs pos="0">
                <a:srgbClr val="5cff5c"/>
              </a:gs>
              <a:gs pos="50000">
                <a:srgbClr val="2a752a"/>
              </a:gs>
              <a:gs pos="100000">
                <a:srgbClr val="5cff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ideo Conversion To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1370160"/>
            <a:ext cx="1084320" cy="733320"/>
          </a:xfrm>
          <a:prstGeom prst="rect">
            <a:avLst/>
          </a:prstGeom>
          <a:gradFill rotWithShape="0">
            <a:gsLst>
              <a:gs pos="0">
                <a:srgbClr val="5cff5c"/>
              </a:gs>
              <a:gs pos="50000">
                <a:srgbClr val="2a752a"/>
              </a:gs>
              <a:gs pos="100000">
                <a:srgbClr val="5cff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ideo Trimming To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 flipV="1">
            <a:off x="1828440" y="2133720"/>
            <a:ext cx="1600200" cy="12952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657600" y="2133720"/>
            <a:ext cx="0" cy="121896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572000" y="2133720"/>
            <a:ext cx="533520" cy="121896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257800" y="2209320"/>
            <a:ext cx="1143000" cy="114300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459480" y="5607000"/>
            <a:ext cx="1312560" cy="337320"/>
            <a:chOff x="6459480" y="5607000"/>
            <a:chExt cx="1312560" cy="337320"/>
          </a:xfrm>
        </p:grpSpPr>
        <p:sp>
          <p:nvSpPr>
            <p:cNvPr id="346" name=""/>
            <p:cNvSpPr/>
            <p:nvPr/>
          </p:nvSpPr>
          <p:spPr>
            <a:xfrm>
              <a:off x="6459480" y="5683320"/>
              <a:ext cx="262440" cy="228600"/>
            </a:xfrm>
            <a:prstGeom prst="rect">
              <a:avLst/>
            </a:prstGeom>
            <a:gradFill rotWithShape="0">
              <a:gsLst>
                <a:gs pos="0">
                  <a:srgbClr val="5cff5c"/>
                </a:gs>
                <a:gs pos="50000">
                  <a:srgbClr val="2a752a"/>
                </a:gs>
                <a:gs pos="100000">
                  <a:srgbClr val="5cff5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3560" y="5607000"/>
              <a:ext cx="10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5c"/>
                  </a:solidFill>
                  <a:latin typeface="Verdana"/>
                </a:rPr>
                <a:t>Gazel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477120" y="5943600"/>
            <a:ext cx="1294560" cy="337320"/>
            <a:chOff x="6477120" y="5943600"/>
            <a:chExt cx="1294560" cy="337320"/>
          </a:xfrm>
        </p:grpSpPr>
        <p:sp>
          <p:nvSpPr>
            <p:cNvPr id="349" name=""/>
            <p:cNvSpPr/>
            <p:nvPr/>
          </p:nvSpPr>
          <p:spPr>
            <a:xfrm>
              <a:off x="6477120" y="6127920"/>
              <a:ext cx="248400" cy="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708240" y="5943600"/>
              <a:ext cx="106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5c"/>
                  </a:solidFill>
                  <a:latin typeface="Verdana"/>
                </a:rPr>
                <a:t>Launc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609480" y="2605320"/>
            <a:ext cx="914400" cy="520200"/>
          </a:xfrm>
          <a:prstGeom prst="rect">
            <a:avLst/>
          </a:prstGeom>
          <a:gradFill rotWithShape="0">
            <a:gsLst>
              <a:gs pos="0">
                <a:srgbClr val="5cff5c"/>
              </a:gs>
              <a:gs pos="50000">
                <a:srgbClr val="2a752a"/>
              </a:gs>
              <a:gs pos="100000">
                <a:srgbClr val="5cff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Disc Imopr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 flipV="1">
            <a:off x="1523520" y="2895120"/>
            <a:ext cx="1752840" cy="68580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219320" y="4265640"/>
            <a:ext cx="1218960" cy="733320"/>
          </a:xfrm>
          <a:prstGeom prst="rect">
            <a:avLst/>
          </a:prstGeom>
          <a:gradFill rotWithShape="0">
            <a:gsLst>
              <a:gs pos="0">
                <a:srgbClr val="5cff5c"/>
              </a:gs>
              <a:gs pos="50000">
                <a:srgbClr val="2a752a"/>
              </a:gs>
              <a:gs pos="100000">
                <a:srgbClr val="5cff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s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pi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5410080"/>
            <a:ext cx="243864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48520" y="1370160"/>
            <a:ext cx="1143000" cy="733320"/>
          </a:xfrm>
          <a:prstGeom prst="rect">
            <a:avLst/>
          </a:prstGeom>
          <a:gradFill rotWithShape="0">
            <a:gsLst>
              <a:gs pos="0">
                <a:srgbClr val="5cff5c"/>
              </a:gs>
              <a:gs pos="50000">
                <a:srgbClr val="2a752a"/>
              </a:gs>
              <a:gs pos="100000">
                <a:srgbClr val="5cff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V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utho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48320" y="1370160"/>
            <a:ext cx="1143000" cy="733320"/>
          </a:xfrm>
          <a:prstGeom prst="rect">
            <a:avLst/>
          </a:prstGeom>
          <a:gradFill rotWithShape="0">
            <a:gsLst>
              <a:gs pos="0">
                <a:srgbClr val="5cff5c"/>
              </a:gs>
              <a:gs pos="50000">
                <a:srgbClr val="2a752a"/>
              </a:gs>
              <a:gs pos="100000">
                <a:srgbClr val="5cff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VCH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utho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666880" y="5027760"/>
            <a:ext cx="1219320" cy="733320"/>
          </a:xfrm>
          <a:prstGeom prst="rect">
            <a:avLst/>
          </a:prstGeom>
          <a:gradFill rotWithShape="0">
            <a:gsLst>
              <a:gs pos="0">
                <a:srgbClr val="5cff5c"/>
              </a:gs>
              <a:gs pos="50000">
                <a:srgbClr val="2a752a"/>
              </a:gs>
              <a:gs pos="100000">
                <a:srgbClr val="5cff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VCH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lay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876920" y="3809880"/>
            <a:ext cx="1066680" cy="53352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781680" y="3351600"/>
            <a:ext cx="1219320" cy="520200"/>
          </a:xfrm>
          <a:prstGeom prst="rect">
            <a:avLst/>
          </a:prstGeom>
          <a:gradFill rotWithShape="0">
            <a:gsLst>
              <a:gs pos="0">
                <a:srgbClr val="5c5cff"/>
              </a:gs>
              <a:gs pos="50000">
                <a:srgbClr val="2a2a75"/>
              </a:gs>
              <a:gs pos="100000">
                <a:srgbClr val="5c5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itialization To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ony Picture Utility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DNA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26DF-CEF0-486B-A24E-8DE3C217FB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6T03:10:11Z</dcterms:created>
  <dc:creator>Motoyuki Suzuki</dc:creator>
  <dc:description/>
  <dc:language>en-US</dc:language>
  <cp:lastModifiedBy>tomoko-t</cp:lastModifiedBy>
  <dcterms:modified xsi:type="dcterms:W3CDTF">2006-04-28T03:34:38Z</dcterms:modified>
  <cp:revision>12</cp:revision>
  <dc:subject/>
  <dc:title>Impalaモジュール構成</dc:title>
</cp:coreProperties>
</file>