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7872-D178-4F95-8875-8711577189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VD/HD-AV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ひとつでいい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D → S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順に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covery Tool / Playlist burnin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i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直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書き戻す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一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取り込んでから書き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1C6-3F54-4B30-B69E-30CA283A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F38-E0B3-424E-B2BC-70A396C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F8E-12D7-40B8-BE68-5B7E04B4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214-0E31-4882-ABBB-0242846B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DC5-29FB-4E5D-A1C5-6C429ABB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299F-4A40-4C87-98C4-21249158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EB08-C323-4EB7-A7AE-10531FA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4700-2D5B-4ED4-AF30-1649624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C190-6EBC-4589-B465-71708CBB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5610-507A-486A-871E-0A87F235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3833-C1E4-4B16-B18D-FEB4728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A89-95DB-4007-AECD-B0A56F3A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475-BC5C-461B-850F-1813865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1133-65F0-4929-8FE9-7299AAE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A158-9D31-4214-B637-1E916D76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FF40-DD26-43D4-A26B-52919A11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3453-3B6E-4861-9AB9-A5FCE655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1A3-9104-48F0-90C8-45082930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2F2-1C70-47DB-8E02-C6D3C27C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107-DA09-4891-ACF3-C0AB93E2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3AF-A39F-4B0A-B1BD-D3732DC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115-9C0E-4192-91A6-BB17FD9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53D-1392-43C9-AA0D-779AAE9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5E9-D1E2-40F8-B265-FAC9A52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FC56-624B-4AAC-8B49-46569199E9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9FE-B351-4225-92BB-75AAF10FA7F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9ac2c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3486600"/>
            <a:ext cx="2210040" cy="307080"/>
          </a:xfrm>
          <a:prstGeom prst="rect">
            <a:avLst/>
          </a:prstGeom>
          <a:gradFill rotWithShape="0">
            <a:gsLst>
              <a:gs pos="0">
                <a:srgbClr val="c0c000"/>
              </a:gs>
              <a:gs pos="50000">
                <a:srgbClr val="585800"/>
              </a:gs>
              <a:gs pos="100000">
                <a:srgbClr val="c0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ture Motion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441828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Check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1370160"/>
            <a:ext cx="129528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Convers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370160"/>
            <a:ext cx="1084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Trimming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1828440" y="2133720"/>
            <a:ext cx="1600200" cy="1295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57600" y="2133720"/>
            <a:ext cx="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2133720"/>
            <a:ext cx="53352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2209320"/>
            <a:ext cx="114300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59480" y="5607000"/>
            <a:ext cx="1312560" cy="337320"/>
            <a:chOff x="6459480" y="5607000"/>
            <a:chExt cx="1312560" cy="337320"/>
          </a:xfrm>
        </p:grpSpPr>
        <p:sp>
          <p:nvSpPr>
            <p:cNvPr id="346" name=""/>
            <p:cNvSpPr/>
            <p:nvPr/>
          </p:nvSpPr>
          <p:spPr>
            <a:xfrm>
              <a:off x="6459480" y="5683320"/>
              <a:ext cx="262440" cy="228600"/>
            </a:xfrm>
            <a:prstGeom prst="rect">
              <a:avLst/>
            </a:prstGeom>
            <a:gradFill rotWithShape="0">
              <a:gsLst>
                <a:gs pos="0">
                  <a:srgbClr val="5cff5c"/>
                </a:gs>
                <a:gs pos="50000">
                  <a:srgbClr val="2a752a"/>
                </a:gs>
                <a:gs pos="100000">
                  <a:srgbClr val="5cff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560" y="5607000"/>
              <a:ext cx="10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Gaz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77120" y="5943600"/>
            <a:ext cx="1294560" cy="337320"/>
            <a:chOff x="6477120" y="5943600"/>
            <a:chExt cx="1294560" cy="337320"/>
          </a:xfrm>
        </p:grpSpPr>
        <p:sp>
          <p:nvSpPr>
            <p:cNvPr id="349" name=""/>
            <p:cNvSpPr/>
            <p:nvPr/>
          </p:nvSpPr>
          <p:spPr>
            <a:xfrm>
              <a:off x="6477120" y="6127920"/>
              <a:ext cx="2484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08240" y="594360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Lau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09480" y="2605320"/>
            <a:ext cx="914400" cy="52020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Disc Imop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523520" y="2895120"/>
            <a:ext cx="175284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265640"/>
            <a:ext cx="121896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pi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410080"/>
            <a:ext cx="2438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V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5027760"/>
            <a:ext cx="1219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3809880"/>
            <a:ext cx="1066680" cy="5335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335160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itializat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ony Picture Utilit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DNA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3E8-737A-499B-A49A-CFE890D518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3:10:11Z</dcterms:created>
  <dc:creator>Motoyuki Suzuki</dc:creator>
  <dc:description/>
  <dc:language>en-US</dc:language>
  <cp:lastModifiedBy>tomoko-t</cp:lastModifiedBy>
  <dcterms:modified xsi:type="dcterms:W3CDTF">2006-04-28T03:34:38Z</dcterms:modified>
  <cp:revision>12</cp:revision>
  <dc:subject/>
  <dc:title>Impalaモジュール構成</dc:title>
</cp:coreProperties>
</file>